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8800" y="771480"/>
            <a:ext cx="5303880" cy="37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28A9-4C82-4CA5-9DF3-6DD416B147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1280" y="9374040"/>
            <a:ext cx="29462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8498-CC03-4FC1-9207-BCC1764A96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usk-cbc.eu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7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prezifedlap3"/>
          <p:cNvPicPr/>
          <p:nvPr/>
        </p:nvPicPr>
        <p:blipFill>
          <a:blip r:embed="rId2"/>
          <a:stretch/>
        </p:blipFill>
        <p:spPr>
          <a:xfrm>
            <a:off x="31680" y="1440"/>
            <a:ext cx="1128420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rojekt Partneri Jelentés</a:t>
            </a:r>
            <a:br>
              <a:rPr sz="4400"/>
            </a:b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készítése és benyújtás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4361040"/>
            <a:ext cx="11315880" cy="9792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Partneri szeminári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usk_eu_logo_hu_gorbe"/>
          <p:cNvPicPr/>
          <p:nvPr/>
        </p:nvPicPr>
        <p:blipFill>
          <a:blip r:embed="rId4"/>
          <a:stretch/>
        </p:blipFill>
        <p:spPr>
          <a:xfrm>
            <a:off x="257040" y="6377040"/>
            <a:ext cx="30546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iaci ár igazol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552320"/>
            <a:ext cx="108741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Szokásos piaci ár igazolása: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közbeszerzés (Kbt-nek megfelelő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összehasonlítható áraján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Bruttó 1000 Euro feletti beszerzések esetében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”Nyilatkozat a piaci ár igazolására” című doku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Árajánlatkér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árajánl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3 ajánlatnak rendelkezésre kell áll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összehasonlíthatóak kell legye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mástól és partnertől független ajánlattevőktől kell származ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z ajánlatok a megrendelés időpontjához képest nem lehetnek 3 hónapnál régebbie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Bírálati összefoglaló készítése összességében legkedvezőbb ajánlat  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fogadása esetében (tartalmi elvárás útmutató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Hiánypótlá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aximum 2 alkalom / partneri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ő alkalom: a hiánypótló levél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küldésének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napjától számított 8 naptári napon belül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zükséges a partnernek benyújtania a hiányzó dokumentumok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ásodik alkalom: legfeljebb 7 naptári nap, de a két esetben max. 15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aptári n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VÁTI Nonprofit Kft. rövidebb hiánypótlási határidőt is szabhat, amennyiben a Hitelesítési Nyilatkozat kiadásának határideje ezt szükségessé tesz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ikertelen hiánypótlás következménye: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PPR elutasítása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elfogadás a nem megfelelő tételek levonása után (a nem elfogadott költségek kizárólag a következő PPR-ben számolhatók el, későbbiben n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elfogad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3400" y="1984320"/>
            <a:ext cx="9617040" cy="4392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z első szintű ellenőrzés (FLC) megállapítja az elszámolható költségek összegé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iállítja a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Hitelesítési nyilatkozatot (Declaration on validation of expenditure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visszaküldi a bélyegzővel hitelesített eredeti számlákat és partner által visszakért eredeti dokumentumoka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 feladata: </a:t>
            </a:r>
            <a:r>
              <a:rPr b="1" lang="hu-HU" sz="2500" spc="-1" strike="noStrike">
                <a:solidFill>
                  <a:srgbClr val="ff0000"/>
                </a:solidFill>
                <a:latin typeface="Calibri"/>
              </a:rPr>
              <a:t>eljuttatni a Hitelesítési nyilatkozatot a vezető partnernek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1263600"/>
            <a:ext cx="9617040" cy="1441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br>
              <a:rPr sz="3900"/>
            </a:br>
            <a:br>
              <a:rPr sz="4500"/>
            </a:br>
            <a:r>
              <a:rPr b="1" lang="hu-HU" sz="4500" spc="-1" strike="noStrike">
                <a:solidFill>
                  <a:srgbClr val="006666"/>
                </a:solidFill>
                <a:latin typeface="Arial"/>
              </a:rPr>
              <a:t>Köszönöm figyelmüket!</a:t>
            </a:r>
            <a:br>
              <a:rPr sz="4500"/>
            </a:b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39600"/>
            <a:ext cx="9617040" cy="4537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Fuchs Klaudi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fuchs@vati.hu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Nemzeti kontroller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44680"/>
            <a:ext cx="9617040" cy="863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Az első </a:t>
            </a: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intű</a:t>
            </a: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 ellenőrzés folyamata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ktum 3"/>
          <p:cNvGraphicFramePr/>
          <p:nvPr/>
        </p:nvGraphicFramePr>
        <p:xfrm>
          <a:off x="1554120" y="1263600"/>
          <a:ext cx="8675640" cy="6337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2" name="Objektum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4120" y="1263600"/>
                    <a:ext cx="867564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6000"/>
          </a:bodyPr>
          <a:p>
            <a:pPr marL="397440" indent="-397440">
              <a:spcBef>
                <a:spcPts val="6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i Jelentés (Partner Progress Report, továbbiakban PPR) készítése előtt figyelmesen olvassanak el valamennyi kapcsolódó útmutatót (nyilvánosság, P.I.H, elszámolási útmutató, IMIR Front Office kézikönyv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z aktuális partneri jelentés csomag a program honlapjáról letölthető </a:t>
            </a:r>
            <a:r>
              <a:rPr b="1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www.husk-cbc.eu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inden projekt partner partneri jelentést készít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z adott beszámolási időszakban megvalósított </a:t>
            </a:r>
            <a:r>
              <a:rPr b="0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aját projekt tevékenységeire,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valamint az adott beszámolási időszakban</a:t>
            </a:r>
            <a:r>
              <a:rPr b="0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 és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fizetett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(+15/30 nap)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saját költségeire vonatkozó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PR nyelve: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ANG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8480" y="183960"/>
            <a:ext cx="1078236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alapja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7040" y="1120320"/>
            <a:ext cx="10269720" cy="5661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mogatási szerződések (ERFA + hazai társfinanszírozás)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és a pályázat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Application For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FA TSZ: projekt szintű jelentés (LP felelősség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rsfinanszírozási TSZ: projektrész szintű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zámolási időszak: Támogatási Szerződésben rögzített 4 havi ütemezés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artneri jelentés benyújtásának határideje: jelentési időszak végétől számított 15 naptári nap (időközi), ill. 30 nap (záró)   -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beérkezés dátuma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ltségfelmerülés hiányában jelenteni nem, DE értesíteni kell az első szint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lenőrzé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Partneri Jelentés benyújtás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 u="sng">
                <a:solidFill>
                  <a:srgbClr val="006666"/>
                </a:solidFill>
                <a:uFillTx/>
                <a:latin typeface="Calibri"/>
              </a:rPr>
              <a:t>Papír alapon – egy eredeti és egy másolati példán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Erede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Jelentés (PPR-szakmai és pénzügyi):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a Projekt Partner által cégszerűen aláírt, lebélyegzett eredeti dokument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és/vagy azzal egyenértékű számviteli bizonyl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atkoz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(alátámasztó dokumentum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hatalmazás (amennyiben relevá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Másola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ból és azon alátámasztó dokumentumokból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, melyek eredeti példánya a partner tulajdonát képezi és azokat visszakéri (helyszíni ellenőrzés alkalmával az FLC az eredeti dokumentumok meglétét ellenőrz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lektronikusa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IMIR 2007-2013 rendszer Front Office felületén keresztü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0" descr="IMG_0089"/>
          <p:cNvPicPr/>
          <p:nvPr/>
        </p:nvPicPr>
        <p:blipFill>
          <a:blip r:embed="rId2"/>
          <a:stretch/>
        </p:blipFill>
        <p:spPr>
          <a:xfrm>
            <a:off x="4002120" y="2992320"/>
            <a:ext cx="2600280" cy="1729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benyújtásának formai követelménye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1154160" indent="-4143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Gyűrűs dossziéban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Cheklistnek megfelelően, költségvetési soronként elválaszt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9" descr="IMG_0086"/>
          <p:cNvPicPr/>
          <p:nvPr/>
        </p:nvPicPr>
        <p:blipFill>
          <a:blip r:embed="rId3"/>
          <a:stretch/>
        </p:blipFill>
        <p:spPr>
          <a:xfrm>
            <a:off x="1697040" y="3808440"/>
            <a:ext cx="1951200" cy="260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IMG_0088"/>
          <p:cNvPicPr/>
          <p:nvPr/>
        </p:nvPicPr>
        <p:blipFill>
          <a:blip r:embed="rId4"/>
          <a:stretch/>
        </p:blipFill>
        <p:spPr>
          <a:xfrm>
            <a:off x="4794120" y="5008680"/>
            <a:ext cx="2600280" cy="195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IMG_0087"/>
          <p:cNvPicPr/>
          <p:nvPr/>
        </p:nvPicPr>
        <p:blipFill>
          <a:blip r:embed="rId5"/>
          <a:stretch/>
        </p:blipFill>
        <p:spPr>
          <a:xfrm>
            <a:off x="7612200" y="335268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4320" y="255240"/>
            <a:ext cx="10226520" cy="108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tartalm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0320" y="1407600"/>
            <a:ext cx="10126800" cy="5040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jelentés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akmai előrehaladás (saját projektrész tevékenység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énzügyi elszámolás (felmerült és elszámolási időszakban (+15/30 nap) kifizetett költség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lőleg elszámolás összesítő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ÁFA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ámlák/egyenértékű bizonylat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látámasztó dokumentumok – piaci ár igazol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Checklist – benne partner nyilatkozata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visszakért eredeti dokumentumokró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projektben  résztvevő személyekrő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mennyiben releváns: módosítások alátámasztó dokumentu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ovábbi segítség számunkra minden kiegészítő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3400" y="75996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akma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3400" y="1839600"/>
            <a:ext cx="9617040" cy="465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 projekt kezdésétől a beszámolási időszak végéi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tátuszjelentés a tevékenységekről (hol tart)- eltérések bemutat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z adott beszámolási időszakban – partnersé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vánosság kapcsán végzett tevékenysége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partnerekkel való együttműködé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felmerült problémá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elvégzett tevékenységek, elért eredmények leír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dikátoro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közbeszerzésekkel és piaci ár igazolással kapcsolatos információ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a jelentést a Projekt Partner cégszerű aláírásával és bélyegzőjével kell ellátn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énzügy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hez kapcsolódó, az adott beszámolási időszakban felmerült és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 kifizetett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+15/30 nap)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öltségeke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tartalmaz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beszámolási időszak végéig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, de a jelentés benyújtási határidejéig ki nem fizetett költségekről a következő beszámolási időszakban kell jelente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ő a meghatározott formátumban benyújta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edeti számlákat (egy másolati példánnyal együtt) szükséges benyújtani, amit hitelesítő bélyegzővel ellátva visszaküldü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látámasztó dokumentumok (pl. szerződések, teljesítés igazolások, „végtermékek”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PR benyújtása előtt javasolt a dokumentáció teljességének ellenőrzése (Checklist alapjá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itöltésében segítség a Front Office kéziköny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cp:lastPrinted>2012-09-25T08:54:08Z</cp:lastPrinted>
  <dcterms:modified xsi:type="dcterms:W3CDTF">2012-10-18T13:51:33Z</dcterms:modified>
  <cp:revision>180</cp:revision>
  <dc:subject/>
  <dc:title>1. dia</dc:title>
</cp:coreProperties>
</file>